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396-3E1E-41AD-B5AC-A4A462E1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B1A-E0D6-4C3F-93D3-BEAD60EE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CFD-2C56-4736-A36B-32FFE842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0EC-84C6-4E58-B45C-DC97767F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00C-B48F-4698-A63D-A2ABC04E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AD6-0EE2-4A5D-9702-E863BBCC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3FA-45CC-4561-B39F-79A73C8B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C36-B288-4B8F-B8C1-27A9BB26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A29-67F6-4393-BC3D-FFE938AB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3C4-21CE-4E0F-8221-562BA8DA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6F5-58B9-48B7-8772-03467E0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CA6-5F29-451D-B91D-7CC21F5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384A-06C0-43A9-9DAA-FC06EA4B5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 J’étais Un Anim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paresseux, je tenterais des exercices périlleux, et on ne me dirait pas que c’est dangere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267080"/>
            <a:ext cx="358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paresseux, me lever tôt le matin serait bien laborie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cochon, je salirais mon pantalon, et on ne me traiterait pas d’animal s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724280"/>
            <a:ext cx="5257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cochon, j’aurais peur de finir en sauci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2286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escargot, j’avancerais piano, piano, et ma lenteur ne serait pas un défa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4571640"/>
            <a:ext cx="4800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escargot, je paniquerias sûrement entre les a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perroquet, je répéterais le même refrain sans arrêt, et on n’essaierait pas de me rabattre le caqu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5075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perroquet, je m’ennuierais seul dans ma cage, sans aucun jou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ouistiti, je ferais plein de gouzi-gouzi, et on ne me trouverait pas imp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ouistiti, je ne pourrais pas lire le soir dans mon l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e souris, je grignoterais pendant la nuit, et on ne me dirait pas que c’est inter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403848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hibou, même à minuit, je ferais le fou, et on ne me reprocherait pas d’être encore de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hibou, côtoyer les loups-garous ne me plairait pas du t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ement, je ne suis pas un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lement un enfant assez gén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 a l’âge de 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, surtout, beaucoup d’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45720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e souris, le chat ne serait pas mon 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chat, je mettrais mes pattes sur le sofa, et on me dirait pas que ça ne se fait p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chat, prendre un bain ne me plairait p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19360" y="2438280"/>
            <a:ext cx="4724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pingouin, je jouerais au sous-marin, et on ne m’obligerait pas à sortir du b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343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pingouin, j’aurais la nostalgie de mon pays loi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chien, je lécherais mon assiette (et même celle du voisin), et on ne me dirait pas que c’est vi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chien, je resterais à la porte des magas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10:21Z</dcterms:created>
  <dc:creator>CVJH-LAB</dc:creator>
  <dc:description/>
  <dc:language>en-US</dc:language>
  <cp:lastModifiedBy>nield411</cp:lastModifiedBy>
  <dcterms:modified xsi:type="dcterms:W3CDTF">2008-02-27T04:42:22Z</dcterms:modified>
  <cp:revision>7</cp:revision>
  <dc:subject/>
  <dc:title>Slide 1</dc:title>
</cp:coreProperties>
</file>